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whoosh.wav" ContentType="audio/x-wav"/>
  <Override PartName="/ppt/media/image15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0CD-50E6-4A81-BAE7-EEACB97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932-B62F-4756-A15E-AB13C61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8CE-5664-4AA6-B0EB-5B3E2D48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D9D-BC48-4549-B8E0-4E1FA40B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2BC-F470-4CF9-B531-12C0C02D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770-125E-404C-AB18-4AAF6A5C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02B-286E-47A5-87EB-956FE500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B2F-3CCF-40E1-934D-38750AB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DEA-0E69-441D-9EF0-6CEC1C71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A61-7F8F-4CEB-9206-CDE3464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097-7A7B-40D5-AFCF-397BA7C1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3F8-D71C-42AD-8C41-DD2E449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209E-79F3-4BB5-8C8F-3FEB4481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11.gif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hyperlink" Target="http://www.dwighthigh.k12.il.us/students/scheuerj/images/11.gif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dwighthigh.k12.il.us/students/scheuerj/images/HomerSimpson.gif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3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11.gif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hyperlink" Target="http://www.dwighthigh.k12.il.us/students/scheuerj/images/11.gif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3.jpeg"/><Relationship Id="rId12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15" Type="http://schemas.openxmlformats.org/officeDocument/2006/relationships/image" Target="../media/image10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hyperlink" Target="http://www.dwighthigh.k12.il.us/students/scheuerj/images/HomerSimpson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hyperlink" Target="http://www.dwighthigh.k12.il.us/students/scheuerj/images/HomerSimpson.gif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wighthigh.k12.il.us/students/scheuerj/images/11.gif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hyperlink" Target="http://www.dwighthigh.k12.il.us/students/scheuerj/images/HomerSimpson.gif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wighthigh.k12.il.us/students/scheuerj/images/11.gif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hyperlink" Target="http://images.google.co.uk/imgres?imgurl=http://www.erzwiss.uni-hamburg.de/comenius/material/19/11/millhouse.gif&amp;imgrefurl=http://www.themagazine.ca/board/index.php%3Fshowtopic%3D838%26view%3Dgetlastpost&amp;h=626&amp;w=525&amp;sz=46&amp;hl=en&amp;start=2&amp;sig2=xDulcDGteHA7o4ZezSCmtw&amp;um=1&amp;tbnid=L2U7DiF_RylzPM:&amp;tbnh=136&amp;tbnw=114&amp;ei=VqiqSKPuB47Y0gSLn6GwDw&amp;prev=/images%3Fq%3DMillhouse%26um%3D1%26hl%3Den%26rlz%3D1T4GGIH_en-GBGB261GB261%26sa%3DN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HomerSimpson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the members of the famil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how to give their name and 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describe your own family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35280" y="1981080"/>
            <a:ext cx="505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i amigo, Mill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141720"/>
            <a:ext cx="277668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4000" y="371628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y hij</a:t>
            </a:r>
            <a:r>
              <a:rPr b="0" lang="en-GB" sz="6000" spc="-1" strike="noStrike">
                <a:solidFill>
                  <a:srgbClr val="3366ff"/>
                </a:solidFill>
                <a:latin typeface="Comic Sans MS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únic</a:t>
            </a:r>
            <a:r>
              <a:rPr b="0" lang="en-GB" sz="60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364500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140360" y="364500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940360" y="3645000"/>
            <a:ext cx="3048120" cy="230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9640" y="3645000"/>
            <a:ext cx="180036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295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495680" y="3429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962520" y="4572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04812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485720" cy="443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27960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 t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9000" y="2209680"/>
            <a:ext cx="29322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 fami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05264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564000" y="407664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3924360" y="981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3336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93372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7740720" y="189000"/>
            <a:ext cx="974520" cy="291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826920" y="476280"/>
            <a:ext cx="216252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0481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304920"/>
            <a:ext cx="243828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19320"/>
            <a:ext cx="2438640" cy="1623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458200" y="-236232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96280" y="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7010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477120" y="685800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362320" y="-2590920"/>
            <a:ext cx="216216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9144000" y="3276720"/>
            <a:ext cx="3048120" cy="2307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-487440" y="-29113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-162396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-952560" y="68580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6858000"/>
            <a:ext cx="1738080" cy="243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675640" y="7029360"/>
            <a:ext cx="2255760" cy="269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-0.00693 L -1.28872 -0.72023 E">
                                      <p:cBhvr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228600"/>
            <a:ext cx="4114800" cy="2666880"/>
          </a:xfrm>
          <a:prstGeom prst="wedgeEllipseCallout">
            <a:avLst>
              <a:gd name="adj1" fmla="val 100694"/>
              <a:gd name="adj2" fmla="val -4898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19112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720" y="2971800"/>
            <a:ext cx="2819160" cy="2057400"/>
          </a:xfrm>
          <a:prstGeom prst="wedgeEllipseCallout">
            <a:avLst>
              <a:gd name="adj1" fmla="val -61657"/>
              <a:gd name="adj2" fmla="val 43902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BA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LI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uánots años tiene tu hermano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ene siete añ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uánots años tiene tu hermana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ene nueve añ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8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228600"/>
            <a:ext cx="4495680" cy="1219320"/>
          </a:xfrm>
          <a:prstGeom prst="wedgeRectCallout">
            <a:avLst>
              <a:gd name="adj1" fmla="val -65361"/>
              <a:gd name="adj2" fmla="val 29166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 famil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14600" y="1676520"/>
            <a:ext cx="386388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91320" y="3733920"/>
            <a:ext cx="3047760" cy="2307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601992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p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47712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herm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m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2900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herma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6019920"/>
            <a:ext cx="23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pad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324480" y="5867280"/>
            <a:ext cx="233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herman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2004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abue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00200" y="5943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895480"/>
            <a:ext cx="23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abue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008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abuel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pic>
        <p:nvPicPr>
          <p:cNvPr id="1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8720" y="3284640"/>
            <a:ext cx="2016000" cy="1942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88000" y="5516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ff"/>
                </a:solidFill>
                <a:latin typeface="Courier New"/>
              </a:rPr>
              <a:t>Soy hijo ú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14800" y="525780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410080" y="24382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padre se llama Homer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ene 36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1484280"/>
            <a:ext cx="856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mic Sans MS"/>
              </a:rPr>
              <a:t>Me llamo Carlos y tengo catorce años. Mi padre se llama Marco y mi madre se llama María. Tengo dos hermanos. Uno se llama Pedro y uno se llama Javier. También tengo tres hermanas. Una se llama Marta, otra se llama Cristina y otra se llama Elena. Javier tiene tres a</a:t>
            </a:r>
            <a:r>
              <a:rPr b="0" lang="es-ES" sz="2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ños y Cristina tiene ocho añ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26920" y="907920"/>
            <a:ext cx="7632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to look for in the descrip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words spelt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I said their n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I said their 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I linked my phrases e.g. using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m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n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5791320" y="3733920"/>
            <a:ext cx="3047760" cy="230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78936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429000"/>
            <a:ext cx="2016000" cy="1943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3564000" y="3141720"/>
            <a:ext cx="2022480" cy="29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066920" y="19810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o soy Maggie, y os presento a mi fami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760840" cy="404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 fami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p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981080"/>
            <a:ext cx="2077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m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000" y="1981080"/>
            <a:ext cx="34340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adre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9240" y="1981080"/>
            <a:ext cx="29415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7080" y="1981080"/>
            <a:ext cx="3667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3411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6:40:52Z</dcterms:created>
  <dc:creator>e.morel</dc:creator>
  <dc:description/>
  <dc:language>en-US</dc:language>
  <cp:lastModifiedBy>Owner1</cp:lastModifiedBy>
  <dcterms:modified xsi:type="dcterms:W3CDTF">2008-12-01T10:01:12Z</dcterms:modified>
  <cp:revision>27</cp:revision>
  <dc:subject/>
  <dc:title>   Ma famille</dc:title>
</cp:coreProperties>
</file>